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1A6FA-7141-4177-9E20-CDAA032EC5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76D0C-368F-47C3-A659-157088BA0A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05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9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05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9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162000"/>
            <a:ext cx="829800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1-</a:t>
            </a:r>
            <a:fld id="{924FBD5F-478E-4973-A26C-BF5B2FB2F988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200"/>
            <a:ext cx="7543800" cy="366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1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cision Making and Relevant Information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stomer Profitability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18 - 42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114300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ctr" pos="4281480"/>
                <a:tab algn="ctr" pos="6053040"/>
                <a:tab algn="ctr" pos="7662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Keep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rop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4281480"/>
                <a:tab algn="ctr" pos="6053040"/>
                <a:tab algn="ctr" pos="7662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cou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cou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62520" y="1981080"/>
            <a:ext cx="47242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724280"/>
            <a:ext cx="9903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2057400"/>
            <a:ext cx="86868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revenu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,20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80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(400,000)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costs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of goods sol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92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9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3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-handling labou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92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9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3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rketing suppor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rder/delivery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2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2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cline in operating incom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f drop accou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(15,000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rrelevance of Past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22 - 42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8374320" cy="96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incurred in the past are sunk (irrelevant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nly expected future costs and revenues are releva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2362320"/>
            <a:ext cx="8610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:  Consider replacing an old machine with a new machine with expected lower operating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Keep Ol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y New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costs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,60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92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68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sposal value of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ld machin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40,000)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of new machin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0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600,000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ce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4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3809880"/>
            <a:ext cx="48769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467480" y="5791320"/>
            <a:ext cx="12193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ear Programm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timization technique used to maximize total contribution margin given multiple constrai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27 - 43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2438280"/>
            <a:ext cx="85341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bjective function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contribution margin = $240S + $375B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straints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embly departme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S + 5B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&lt;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6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esting departme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S + 0.5B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&lt;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12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 shortag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&lt;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11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egative impossibility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&gt;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0 and B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&gt;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2286000" y="3809880"/>
            <a:ext cx="1523880" cy="1219320"/>
            <a:chOff x="2286000" y="3809880"/>
            <a:chExt cx="1523880" cy="1219320"/>
          </a:xfrm>
        </p:grpSpPr>
        <p:sp>
          <p:nvSpPr>
            <p:cNvPr id="132" name=""/>
            <p:cNvSpPr/>
            <p:nvPr/>
          </p:nvSpPr>
          <p:spPr>
            <a:xfrm>
              <a:off x="2362320" y="3809880"/>
              <a:ext cx="1447560" cy="1219320"/>
            </a:xfrm>
            <a:custGeom>
              <a:avLst/>
              <a:gdLst/>
              <a:ahLst/>
              <a:rect l="l" t="t" r="r" b="b"/>
              <a:pathLst>
                <a:path w="912" h="768">
                  <a:moveTo>
                    <a:pt x="0" y="0"/>
                  </a:moveTo>
                  <a:lnTo>
                    <a:pt x="144" y="0"/>
                  </a:lnTo>
                  <a:lnTo>
                    <a:pt x="525" y="111"/>
                  </a:lnTo>
                  <a:lnTo>
                    <a:pt x="912" y="768"/>
                  </a:lnTo>
                  <a:lnTo>
                    <a:pt x="0" y="7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86000" y="4267080"/>
              <a:ext cx="1295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Feasible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Solution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ear Programming Solu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27 - 43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57400" y="5105520"/>
            <a:ext cx="4876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     50     100     150     200     250    3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nowmobile Engines (S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3076200"/>
            <a:ext cx="1371600" cy="126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oat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ngines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(B)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00200" y="2286000"/>
            <a:ext cx="6858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5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5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362320" y="2362320"/>
            <a:ext cx="0" cy="266688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362320" y="5029200"/>
            <a:ext cx="44193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362320" y="1371600"/>
            <a:ext cx="3276360" cy="3657600"/>
            <a:chOff x="2362320" y="1371600"/>
            <a:chExt cx="3276360" cy="3657600"/>
          </a:xfrm>
        </p:grpSpPr>
        <p:sp>
          <p:nvSpPr>
            <p:cNvPr id="142" name=""/>
            <p:cNvSpPr/>
            <p:nvPr/>
          </p:nvSpPr>
          <p:spPr>
            <a:xfrm>
              <a:off x="2362320" y="2590920"/>
              <a:ext cx="1447560" cy="24382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971800" y="1371600"/>
              <a:ext cx="26668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Testing Department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Constraint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2666520" y="1905120"/>
              <a:ext cx="762120" cy="114300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2362320" y="3048120"/>
            <a:ext cx="5333760" cy="761760"/>
            <a:chOff x="2362320" y="3048120"/>
            <a:chExt cx="5333760" cy="761760"/>
          </a:xfrm>
        </p:grpSpPr>
        <p:sp>
          <p:nvSpPr>
            <p:cNvPr id="146" name=""/>
            <p:cNvSpPr/>
            <p:nvPr/>
          </p:nvSpPr>
          <p:spPr>
            <a:xfrm>
              <a:off x="2362320" y="3809880"/>
              <a:ext cx="23619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029200" y="3048120"/>
              <a:ext cx="266688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Material Shortag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Constraint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4876560" y="3505320"/>
              <a:ext cx="609480" cy="3045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2362320" y="3733920"/>
            <a:ext cx="6629400" cy="1295280"/>
            <a:chOff x="2362320" y="3733920"/>
            <a:chExt cx="6629400" cy="1295280"/>
          </a:xfrm>
        </p:grpSpPr>
        <p:sp>
          <p:nvSpPr>
            <p:cNvPr id="150" name=""/>
            <p:cNvSpPr/>
            <p:nvPr/>
          </p:nvSpPr>
          <p:spPr>
            <a:xfrm>
              <a:off x="2362320" y="3733920"/>
              <a:ext cx="4190760" cy="12952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95880" y="3962520"/>
              <a:ext cx="289584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Assembly Department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Constraint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6095880" y="4419720"/>
              <a:ext cx="609840" cy="3808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276720" y="2286000"/>
            <a:ext cx="2743200" cy="1676520"/>
            <a:chOff x="3276720" y="2286000"/>
            <a:chExt cx="2743200" cy="1676520"/>
          </a:xfrm>
        </p:grpSpPr>
        <p:sp>
          <p:nvSpPr>
            <p:cNvPr id="154" name=""/>
            <p:cNvSpPr/>
            <p:nvPr/>
          </p:nvSpPr>
          <p:spPr>
            <a:xfrm>
              <a:off x="3581280" y="2286000"/>
              <a:ext cx="24386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8000"/>
            </a:bodyPr>
            <a:p>
              <a:pPr marL="335880" indent="-3358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Optimal Corner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5880" indent="-335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5S, 90B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3276720" y="2971800"/>
              <a:ext cx="914400" cy="99072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formation and the Decision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416880" indent="-4168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86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decision model is a formal method of making a choice, frequently involving quantitative analysi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16880" indent="0">
              <a:spcBef>
                <a:spcPts val="249"/>
              </a:spcBef>
              <a:buNone/>
              <a:tabLst>
                <a:tab algn="l" pos="0"/>
                <a:tab algn="l" pos="86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416880" indent="0">
              <a:spcBef>
                <a:spcPts val="601"/>
              </a:spcBef>
              <a:buNone/>
              <a:tabLst>
                <a:tab algn="l" pos="0"/>
                <a:tab algn="l" pos="86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 Steps in the Decision Proces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16880" indent="0">
              <a:spcBef>
                <a:spcPts val="2251"/>
              </a:spcBef>
              <a:buNone/>
              <a:tabLst>
                <a:tab algn="l" pos="0"/>
                <a:tab algn="l" pos="86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04 - 40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5714640" y="3428640"/>
            <a:ext cx="1755360" cy="2514960"/>
            <a:chOff x="5714640" y="3428640"/>
            <a:chExt cx="1755360" cy="2514960"/>
          </a:xfrm>
        </p:grpSpPr>
        <p:sp>
          <p:nvSpPr>
            <p:cNvPr id="53" name=""/>
            <p:cNvSpPr/>
            <p:nvPr/>
          </p:nvSpPr>
          <p:spPr>
            <a:xfrm flipH="1">
              <a:off x="5714640" y="3429000"/>
              <a:ext cx="114300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5714640" y="4038480"/>
              <a:ext cx="114300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5867280" y="4648320"/>
              <a:ext cx="99072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6019920" y="5334120"/>
              <a:ext cx="8380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6858000" y="3428640"/>
              <a:ext cx="0" cy="25146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5943600" y="5943600"/>
              <a:ext cx="91440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6200000">
              <a:off x="6401880" y="418932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Feedback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304920" y="320040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90680" indent="-4906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86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Gather inform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04920" y="5562720"/>
            <a:ext cx="6019560" cy="685800"/>
            <a:chOff x="304920" y="5562720"/>
            <a:chExt cx="6019560" cy="685800"/>
          </a:xfrm>
        </p:grpSpPr>
        <p:sp>
          <p:nvSpPr>
            <p:cNvPr id="62" name=""/>
            <p:cNvSpPr/>
            <p:nvPr/>
          </p:nvSpPr>
          <p:spPr>
            <a:xfrm>
              <a:off x="3581280" y="5562720"/>
              <a:ext cx="0" cy="2286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4920" y="5715000"/>
              <a:ext cx="60195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490680" indent="-4906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865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5.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valuate performance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304920" y="3657600"/>
            <a:ext cx="5257800" cy="609480"/>
            <a:chOff x="304920" y="3657600"/>
            <a:chExt cx="5257800" cy="609480"/>
          </a:xfrm>
        </p:grpSpPr>
        <p:sp>
          <p:nvSpPr>
            <p:cNvPr id="65" name=""/>
            <p:cNvSpPr/>
            <p:nvPr/>
          </p:nvSpPr>
          <p:spPr>
            <a:xfrm>
              <a:off x="3581280" y="3657600"/>
              <a:ext cx="0" cy="2286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04920" y="3809880"/>
              <a:ext cx="5257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490680" indent="-4906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865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2.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Make prediction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304920" y="4267080"/>
            <a:ext cx="5257800" cy="685800"/>
            <a:chOff x="304920" y="4267080"/>
            <a:chExt cx="5257800" cy="685800"/>
          </a:xfrm>
        </p:grpSpPr>
        <p:sp>
          <p:nvSpPr>
            <p:cNvPr id="68" name=""/>
            <p:cNvSpPr/>
            <p:nvPr/>
          </p:nvSpPr>
          <p:spPr>
            <a:xfrm>
              <a:off x="3581280" y="4267080"/>
              <a:ext cx="0" cy="2286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04920" y="4495680"/>
              <a:ext cx="5257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9000"/>
            </a:bodyPr>
            <a:p>
              <a:pPr marL="485640" indent="-48564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865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3.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hoose an alternative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04920" y="4952880"/>
            <a:ext cx="5638680" cy="609840"/>
            <a:chOff x="304920" y="4952880"/>
            <a:chExt cx="5638680" cy="609840"/>
          </a:xfrm>
        </p:grpSpPr>
        <p:sp>
          <p:nvSpPr>
            <p:cNvPr id="71" name=""/>
            <p:cNvSpPr/>
            <p:nvPr/>
          </p:nvSpPr>
          <p:spPr>
            <a:xfrm>
              <a:off x="3581280" y="4952880"/>
              <a:ext cx="0" cy="2286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04920" y="5105520"/>
              <a:ext cx="5638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9000"/>
            </a:bodyPr>
            <a:p>
              <a:pPr marL="485640" indent="-48564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865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4.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Implement the decision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levant Costs and Revenu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costs are expected future costs that differ across alternative courses of ac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revenues are expected future revenues that differ across alternative courses of action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very decision deals with the futur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incurred in the past are irreleva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se costs are sometimes called sunk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ast costs are only useful in that they may help predict costs in the futur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05 - 40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ntitative and Qualitative Inform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antitative factors are outcomes that are measured in numerical term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pected costs, sales revenues and volum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alitative factors are outcomes that cannot be measured in numerical term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mployee morale, customer satisfac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00200" y="5029200"/>
            <a:ext cx="0" cy="5335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5791320"/>
            <a:ext cx="76212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5791320"/>
            <a:ext cx="167652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38680" y="5029200"/>
            <a:ext cx="0" cy="7621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06 - 40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4343400"/>
            <a:ext cx="1828800" cy="7038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Quantitativ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format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5610240"/>
            <a:ext cx="1828800" cy="3988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24280" y="4343400"/>
            <a:ext cx="1828800" cy="7038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Quantitativ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format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76720" y="5610240"/>
            <a:ext cx="1447560" cy="3988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sul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5610240"/>
            <a:ext cx="1828800" cy="3988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ecis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ypical Relevant Costing Deci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1457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ne-Time-Only Special Order  (Pricing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ke or Buy Decisions  (Outsourcing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portunity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 Mix Decisions under Capacity Constrai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dd or Drop a Product Line or Custom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quipment Replacement Decis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07 - 42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e-Time-Only Special Ord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5266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ithou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it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rd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rd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olum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5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revenue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60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655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55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costs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ing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225,000)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262,500)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37,500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remental incom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7,5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07 - 40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62520" y="2209680"/>
            <a:ext cx="47242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5105520"/>
            <a:ext cx="9907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utsourcing and Make/Buy Deci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526600" cy="50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k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y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costs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utside cost of par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6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6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material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$8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(80,000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labou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  1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(10,000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overhea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  4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(40,000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purchasing,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eiving and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tup overhea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  2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(20,000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remental differe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 favour of making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10 - 41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62520" y="1828800"/>
            <a:ext cx="47242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5105520"/>
            <a:ext cx="9907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utsourcing and Opportunity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526600" cy="37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k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y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1312"/>
              </a:spcBef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cost to  mak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5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cost to buy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6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portunity cost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fit forgone becau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pacity cannot be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 make another produc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 25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relevant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75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6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13 - 41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1828800"/>
            <a:ext cx="312444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62920" y="4419720"/>
            <a:ext cx="9903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10080" y="4419720"/>
            <a:ext cx="9907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5040" y="5221440"/>
            <a:ext cx="79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portunity cost considers the profits lost by not following the next best alternative course of ac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duct Mix Decisions Under Constrai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17 - 41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8800" y="1323720"/>
            <a:ext cx="8374320" cy="29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ctr" pos="5661000"/>
                <a:tab algn="ctr" pos="7431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nowmobil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o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5661000"/>
                <a:tab algn="ctr" pos="7431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ngin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ngin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5661000"/>
                <a:tab algn="ctr" pos="743112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5661000"/>
                <a:tab algn="ctr" pos="7431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 per uni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4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375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5661000"/>
                <a:tab algn="ctr" pos="7431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chine hours required per uni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5661000"/>
                <a:tab algn="ctr" pos="7431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 per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5661000"/>
                <a:tab algn="ctr" pos="7431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chine hou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2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75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57800" y="2209680"/>
            <a:ext cx="32004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0120" y="3200400"/>
            <a:ext cx="6094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3200400"/>
            <a:ext cx="60984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2840" y="4419720"/>
            <a:ext cx="83739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f machine hours are constrained, maximize income by first producing as many snowmobile engines as can be sold and then shift production to boat engin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23:20:10Z</dcterms:created>
  <dc:creator>User</dc:creator>
  <dc:description/>
  <dc:language>en-US</dc:language>
  <cp:lastModifiedBy>John Moore</cp:lastModifiedBy>
  <cp:lastPrinted>1999-06-03T23:46:28Z</cp:lastPrinted>
  <dcterms:modified xsi:type="dcterms:W3CDTF">2003-03-22T13:16:57Z</dcterms:modified>
  <cp:revision>17</cp:revision>
  <dc:subject/>
  <dc:title>No Slide Title</dc:title>
</cp:coreProperties>
</file>